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F60-D5CF-4302-B850-4E729F38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393-C68C-4B27-9B00-5BBBC739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7FF-DDC6-439B-9173-2ECA0F25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254-B599-4C63-A0BC-E891CF3A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BDE-48D4-4D3B-BD93-62A694C9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AF8-2B3C-41ED-89BD-157BD045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071A-9A8A-4AA5-8A29-7E1FB014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8F4-E60E-40D9-AE90-2D715C53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29A-DBC9-4E2D-B5DE-34ADA4D3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518-B2B0-4DA1-8056-CB0AF918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357-D12F-4547-9EFA-BF0E38A9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139-666E-448B-BCA9-83D73E95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301B-1140-47E8-B688-BBA19D66E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Free-Response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1981080"/>
            <a:ext cx="48769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R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391520" y="3124080"/>
            <a:ext cx="15094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What Is the Free-Respons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wo part essay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 – 1870 (one prior to 17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fter – 1870 (one after 19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wo questions in each group – select one from each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0 minutes to plan and write both ess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72400" y="1905120"/>
            <a:ext cx="101916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fill="hold"/>
                                  <p:tgtEl>
                                    <p:spTgt spid="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What Is the Free-Response Question?</a:t>
            </a:r>
            <a:br>
              <a:rPr sz="4400"/>
            </a:b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 and 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outsid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t as long or in-depth as DB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ible 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ormation to support 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vidence, Evidence,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53080" y="2819520"/>
            <a:ext cx="24829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4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Question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st FR Essays ask you to analyze, assess or evaluate cause and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ssess the impact of any THREE of the following on the United States’ decision to declare war on England in 181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Embargo Act of 18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merica’s desire for Wester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merica’s military prepare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ow were the lives of the Plains Indians in the second half of the nineteenth century affected by technological developments and government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2492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Ques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what ways did economic conditions and developments in the arts and entertainment help create the reputation of the 1920’s as the Roaring Twen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How do you account for the appeal of McCarthyism in the United States in the era following the Second World War?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31040" y="5410080"/>
            <a:ext cx="12034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Which Questions to Cho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one you know most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t the easiest at first g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more you know about the subject, the better the final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0600" y="4160880"/>
            <a:ext cx="396252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How to Write the Ess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ad the question thorough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alyze and breakdown the qu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ircle and/or underline important words and phr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eate a grid, cluster, chart or tak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0400" y="4714920"/>
            <a:ext cx="3048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How to Write the Ess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sess information and devise a 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ick outline (if you have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ening paragraph which includes an opening statement, restating the question, your opinion on the question and your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lit time between both essays (35 minu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e clearly and nea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vidence, Evidence,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129440" y="4648320"/>
            <a:ext cx="17510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2" dur="1" fill="hold"/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01:21Z</dcterms:created>
  <dc:creator>Matt Tassinari</dc:creator>
  <dc:description/>
  <dc:language>en-US</dc:language>
  <cp:lastModifiedBy> </cp:lastModifiedBy>
  <dcterms:modified xsi:type="dcterms:W3CDTF">2007-07-22T18:55:58Z</dcterms:modified>
  <cp:revision>24</cp:revision>
  <dc:subject/>
  <dc:title>PowerPoint Presentation</dc:title>
</cp:coreProperties>
</file>